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A720-86DC-4B9C-8E31-CE79C075D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3B49-9338-4320-9183-2273F1FAC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54C0-2AE0-43FB-8998-22D2BB4AB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DF96-B28E-4732-9F7F-FC0446B81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E2BD-8B79-49BA-9C5C-234C4E30C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A36A-DEBE-427B-8F16-C0B7D5950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E522-C558-4345-8ABE-950186196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1430-7433-4375-8598-6B5A0229E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D4D5-3F29-4510-9703-76959B73A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FC4B-47C4-49DE-B1B7-2B41F31B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E1E2-4D01-4534-89C4-7774EF89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B8F4-B092-4509-88FB-C91A23D3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3B9C7-7430-47D0-A0B7-4D61FF176F1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heme and id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6840" y="1600200"/>
            <a:ext cx="224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lexical fie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700000" y="1600200"/>
            <a:ext cx="598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 group of words or phrases that are all associated with a particular subject or categ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8T20:58:01Z</dcterms:created>
  <dc:creator>Jane Klima</dc:creator>
  <dc:description/>
  <dc:language>en-US</dc:language>
  <cp:lastModifiedBy>Archer, Katy</cp:lastModifiedBy>
  <dcterms:modified xsi:type="dcterms:W3CDTF">2014-12-18T11:11:58Z</dcterms:modified>
  <cp:revision>49</cp:revision>
  <dc:subject/>
  <dc:title>La Belle Dame Sans Merci</dc:title>
</cp:coreProperties>
</file>